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0.png" ContentType="image/png"/>
  <Override PartName="/ppt/media/image5.png" ContentType="image/png"/>
  <Override PartName="/ppt/media/image2.gif" ContentType="image/gif"/>
  <Override PartName="/ppt/media/image6.png" ContentType="image/png"/>
  <Override PartName="/ppt/media/image11.png" ContentType="image/png"/>
  <Override PartName="/ppt/media/image3.wmf" ContentType="image/x-wmf"/>
  <Override PartName="/ppt/media/image4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9F692-C494-489E-B1C2-83AF3586F0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8D73A-972F-4679-9E2B-51C9511A3C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99BAA-16E3-439A-A87A-1891D26179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AA4FD-B85F-4879-847C-0E52EB9944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st definition is really at the heart of geography.  Maps are the tools of geographers:  If something can be mapped, it’s geograph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11524-12F3-47F8-A6D5-BEB96C1C24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71206-EA81-49FB-9225-5C365F763D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B649-0D8C-404B-80E6-8B659B5B8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31B1-9DDA-4A59-AB06-273D4F3C6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E77A-8B56-49FF-8F57-93A161245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9562-0C2E-4928-BD4B-097E51B6D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5AB4DA-B40A-4063-876A-040520521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DC94CE-B7FB-4CD3-99C2-875BDF37C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5CD2EC-103F-4167-A821-7ECAD2D2B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632572-8F78-48E5-990A-74699DA17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491E5B-077B-4247-BD7C-C3FBF5697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199AB0-B287-41C4-BE13-B5A426333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1C3CEC-C925-4C9E-B9CE-CEE243A1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A527-1800-416D-9B20-7A16AE764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C3B775-9109-4020-98CD-3B3E7C821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C90CC4-A171-4FBD-B2BA-F5401E70B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26D83A-DDEB-4436-AEA6-0543AC146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84BD68-4460-4BC7-A9AB-86ACCE5A3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98DCDD-0C1C-428B-B134-57692F381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5C25-0B7B-4D6C-915B-8432D554F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4A83-92CE-4924-B913-5184F0D13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6086-C9A9-4E51-AB12-998F7D669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0960-2DD0-4804-8DE8-2B9D1B051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2B3E-4B10-4175-AE03-325CCEA0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37EA-A2CC-4832-BE49-28F65723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6D4B-1DDC-43EF-ABD3-CB035384C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929DB-A847-4577-AD5B-25AA2FB2764C}" type="slidenum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F45BA-1710-4468-AC62-BD0B998D321B}" type="slidenum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33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33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Comic Sans MS"/>
              </a:rPr>
              <a:t>Chapter 1:</a:t>
            </a:r>
            <a:br>
              <a:rPr sz="5400"/>
            </a:br>
            <a:r>
              <a:rPr b="1" lang="en-US" sz="4400" spc="-1" strike="noStrike">
                <a:solidFill>
                  <a:srgbClr val="000066"/>
                </a:solidFill>
                <a:latin typeface="Comic Sans MS"/>
              </a:rPr>
              <a:t>The World of Geography</a:t>
            </a:r>
            <a:br>
              <a:rPr sz="4400"/>
            </a:b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048120" y="2819520"/>
            <a:ext cx="3295440" cy="3046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Place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This includes a location’s physical and human features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To describe physical features, you might say that the climate is hot or cold or that the land is hilly.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To describe human features, you might discuss how many people live there, what types of work they do, or what they do for fun.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Human-Environment Interaction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How do people adjust to and change their environment?  How does the environment adjust to and change the people?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Geographers also use interaction to study the consequences of people’s actions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Movemen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Explains how people, goods, and ideas move from one place to another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Helps geographers understand cultural changes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Region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A region has a unifying characteristic, like climate, land, population, or history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On maps, geographers use color and shape or special symbols to show regions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The Geographer’s Tool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Globes and Maps: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As people explored the Earth, they collected information about it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Mapmakers wanted to present this information correctly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The best way was to put it on a globe, a round ball that represented the Earth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Because globes are not practical or easy to use to carry, flat maps were invented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However, the earth is round and a map is flat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Mapmakers had to find ways to make maps accurate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7894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Tahoma"/>
              </a:rPr>
              <a:t>How Latitude and Longitude Form the Global Grid</a:t>
            </a:r>
            <a:endParaRPr b="0" lang="en-US" sz="38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58760" y="2028960"/>
            <a:ext cx="2889360" cy="3609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3075120" y="2028960"/>
            <a:ext cx="2766960" cy="34574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5929200" y="2028960"/>
            <a:ext cx="2951280" cy="368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The Hemisphere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09440" y="990720"/>
            <a:ext cx="4337280" cy="56386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4222800" y="990720"/>
            <a:ext cx="4992480" cy="556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p:transition>
    <p:wipe dir="r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Globes and Map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The most accurate way to present information on the islands, continents, and bodies of water of the world is to put it all on a </a:t>
            </a:r>
            <a:r>
              <a:rPr b="0" lang="en-US" sz="3200" spc="-1" strike="noStrike">
                <a:solidFill>
                  <a:srgbClr val="6666ff"/>
                </a:solidFill>
                <a:latin typeface="Tahoma"/>
              </a:rPr>
              <a:t>globe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, a round ball like the Earth itself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The only difference between a globe and the Earth itself is the </a:t>
            </a:r>
            <a:r>
              <a:rPr b="0" lang="en-US" sz="3200" spc="-1" strike="noStrike">
                <a:solidFill>
                  <a:srgbClr val="6666ff"/>
                </a:solidFill>
                <a:latin typeface="Tahoma"/>
              </a:rPr>
              <a:t>scale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, or size, represented on the globe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p:transition>
    <p:wipe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Globes have a disadvantage: They cannot be complete enough to be useful and at the same time be small enough to be convenient. 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Therefore, people invented flat maps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80880" y="5331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66"/>
                </a:solidFill>
                <a:latin typeface="Comic Sans MS"/>
              </a:rPr>
              <a:t>Chapter 1: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66"/>
                </a:solidFill>
                <a:latin typeface="Comic Sans MS"/>
              </a:rPr>
              <a:t>What is Geography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*</a:t>
            </a:r>
            <a:r>
              <a:rPr b="0" lang="en-US" sz="3600" spc="-1" strike="noStrike">
                <a:solidFill>
                  <a:srgbClr val="003366"/>
                </a:solidFill>
                <a:latin typeface="Comic Sans MS"/>
              </a:rPr>
              <a:t>It is the study of our earth; our home.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3366"/>
                </a:solidFill>
                <a:latin typeface="Comic Sans MS"/>
              </a:rPr>
              <a:t>OR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Comic Sans MS"/>
              </a:rPr>
              <a:t>*Anything that can be mapped!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Maps try to show the Earth, which is round, on a flat surface. 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This causes </a:t>
            </a:r>
            <a:r>
              <a:rPr b="0" lang="en-US" sz="3200" spc="-1" strike="noStrike">
                <a:solidFill>
                  <a:srgbClr val="6666ff"/>
                </a:solidFill>
                <a:latin typeface="Tahoma"/>
              </a:rPr>
              <a:t>distortion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, or a change in accuracy of the shapes and distances of places. 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It is impossible to show the Earth on a flat surface without some distortion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118120" y="1371600"/>
            <a:ext cx="3873600" cy="52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In 1569, a geographer named Gerardus Mercator created a flat map to help sailors navigate long journeys across the glob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he Mercator projection, or method of putting a map of the Earth onto a flat piece of paper, is used by nearly all deep-sea navigator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he Mercator projection is a conformal map, meaning that it shows correct shapes, but not true distances or size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here are many types of other projections of the glob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Getting It All On the Map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52280" y="1622520"/>
            <a:ext cx="4918320" cy="44719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44600" y="1293840"/>
            <a:ext cx="4626000" cy="368280"/>
          </a:xfrm>
          <a:prstGeom prst="rect">
            <a:avLst/>
          </a:prstGeom>
          <a:solidFill>
            <a:srgbClr val="5b9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d93ff"/>
                </a:solidFill>
                <a:latin typeface="Arial"/>
              </a:rPr>
              <a:t>The World: Mercator Projec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p:transition>
    <p:wipe dir="r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572000" y="838080"/>
            <a:ext cx="4343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here are many ways to show a globe on a flat map. The interrupted projection map, on the left, shows real sizes and shapes of continents. The equal area map , below left, shows size accurately. The Peters projection, below, shows land and oceans areas and correct directions accurate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The World: Three Projection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0" y="914400"/>
            <a:ext cx="4647960" cy="2742840"/>
            <a:chOff x="0" y="914400"/>
            <a:chExt cx="4647960" cy="2742840"/>
          </a:xfrm>
        </p:grpSpPr>
        <p:pic>
          <p:nvPicPr>
            <p:cNvPr id="134" name="" descr=""/>
            <p:cNvPicPr/>
            <p:nvPr/>
          </p:nvPicPr>
          <p:blipFill>
            <a:blip r:embed="rId2"/>
            <a:srcRect l="613" t="0" r="0" b="0"/>
            <a:stretch/>
          </p:blipFill>
          <p:spPr>
            <a:xfrm>
              <a:off x="0" y="914400"/>
              <a:ext cx="4647960" cy="274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0" y="914400"/>
              <a:ext cx="2752560" cy="307080"/>
            </a:xfrm>
            <a:prstGeom prst="rect">
              <a:avLst/>
            </a:prstGeom>
            <a:solidFill>
              <a:srgbClr val="5d9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Interrupted Projection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57200" y="3886200"/>
            <a:ext cx="4063680" cy="2819160"/>
            <a:chOff x="457200" y="3886200"/>
            <a:chExt cx="4063680" cy="2819160"/>
          </a:xfrm>
        </p:grpSpPr>
        <p:pic>
          <p:nvPicPr>
            <p:cNvPr id="137" name="" descr=""/>
            <p:cNvPicPr/>
            <p:nvPr/>
          </p:nvPicPr>
          <p:blipFill>
            <a:blip r:embed="rId3"/>
            <a:stretch/>
          </p:blipFill>
          <p:spPr>
            <a:xfrm>
              <a:off x="457200" y="3965760"/>
              <a:ext cx="4063680" cy="27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457200" y="3886200"/>
              <a:ext cx="2295360" cy="307080"/>
            </a:xfrm>
            <a:prstGeom prst="rect">
              <a:avLst/>
            </a:prstGeom>
            <a:solidFill>
              <a:srgbClr val="5d9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Equal-Area Projection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4838760" y="3570120"/>
            <a:ext cx="4076280" cy="2982240"/>
            <a:chOff x="4838760" y="3570120"/>
            <a:chExt cx="4076280" cy="2982240"/>
          </a:xfrm>
        </p:grpSpPr>
        <p:pic>
          <p:nvPicPr>
            <p:cNvPr id="140" name="" descr=""/>
            <p:cNvPicPr/>
            <p:nvPr/>
          </p:nvPicPr>
          <p:blipFill>
            <a:blip r:embed="rId4"/>
            <a:stretch/>
          </p:blipFill>
          <p:spPr>
            <a:xfrm>
              <a:off x="4838760" y="3662280"/>
              <a:ext cx="4076280" cy="289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4838760" y="3570120"/>
              <a:ext cx="2034000" cy="307080"/>
            </a:xfrm>
            <a:prstGeom prst="rect">
              <a:avLst/>
            </a:prstGeom>
            <a:solidFill>
              <a:srgbClr val="5d9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eters Projection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p:transition>
    <p:wipe dir="r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The World: A Robinson Projection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1447920"/>
            <a:ext cx="9143640" cy="5104800"/>
            <a:chOff x="0" y="1447920"/>
            <a:chExt cx="9143640" cy="5104800"/>
          </a:xfrm>
        </p:grpSpPr>
        <p:pic>
          <p:nvPicPr>
            <p:cNvPr id="144" name="" descr=""/>
            <p:cNvPicPr/>
            <p:nvPr/>
          </p:nvPicPr>
          <p:blipFill>
            <a:blip r:embed="rId2"/>
            <a:stretch/>
          </p:blipFill>
          <p:spPr>
            <a:xfrm>
              <a:off x="0" y="1499760"/>
              <a:ext cx="9143640" cy="505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4830480" y="1525680"/>
              <a:ext cx="2107800" cy="210600"/>
            </a:xfrm>
            <a:prstGeom prst="rect">
              <a:avLst/>
            </a:prstGeom>
            <a:solidFill>
              <a:srgbClr val="5d9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584240" y="1447920"/>
              <a:ext cx="196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56b8d6"/>
                  </a:solidFill>
                  <a:latin typeface="45 Helvetica Light"/>
                </a:rPr>
                <a:t>ARCTIC OCEAN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p:transition>
    <p:wipe dir="r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The Parts of a Map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Tahoma"/>
              </a:rPr>
              <a:t>Compass Rose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A compass rose is a model of a compass. It tells the cardinal directions, which are north, south, east, and west.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Tahoma"/>
              </a:rPr>
              <a:t>Scale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The scale on a map tells you the relative distance on the map to the real world. For example, a map’s scale may tell you that one inch on the map equals one mile in the real world.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7273800" y="291960"/>
            <a:ext cx="1793880" cy="1841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p:transition>
    <p:wipe dir="r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80880" y="13716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Tahoma"/>
              </a:rPr>
              <a:t>Key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The key, or legend, on a map explains what the symbols on a map represent, such as triangles representing trees.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Tahoma"/>
              </a:rPr>
              <a:t>Grids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Some maps use a grid of parallels and meridians. On a map of a small area, letters and numbers are often used to help you find your location.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858000" y="380880"/>
            <a:ext cx="1422360" cy="1460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*Geography mixes up the physical and human aspects of our world into one field of study.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*Geography shows the relationship between people and the environment.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What is a geographer?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Someone who analyzes the Earth from many points of view.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  <a:p>
            <a:pPr lvl="3" marL="16002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800600" y="2209680"/>
            <a:ext cx="3373560" cy="3429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The Five Themes of Geography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There are five ways to look at the earth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When geographers work, they are guided by two basic questions: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1" marL="980640" indent="-528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Where are things located?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1" marL="980640" indent="-528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Why are they there?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1" marL="980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1" marL="980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Comic Sans MS"/>
              </a:rPr>
              <a:t>To find these answers, geographers use five themes to organize information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Things that geographers study: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oceans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plant life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landforms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people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how the Earth and its people affect each other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66"/>
                </a:solidFill>
                <a:uFillTx/>
                <a:latin typeface="Tahoma"/>
              </a:rPr>
              <a:t>The Five Themes: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00"/>
              </a:buClr>
              <a:buSzPct val="12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Location – Geographers begin to study a place by finding where it is, or its location.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3300"/>
              </a:buClr>
              <a:buSzPct val="12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Place – Geographers study the physical and human features of a location.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3300"/>
              </a:buClr>
              <a:buSzPct val="12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Human-Environment Interaction – Geographers study how people affect or shape physical characteristics of their natural surroundings and how does their surroundings (environment) affect them?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Movement – Helps explain how people, goods, and ideas get from one place to another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Regions – Geographers compare the climate, land, population, or history of one place to another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Location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There are two ways to think about location: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  <a:p>
            <a:pPr lvl="1" marL="990720" indent="-533520">
              <a:spcBef>
                <a:spcPts val="799"/>
              </a:spcBef>
              <a:buClr>
                <a:srgbClr val="003366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absolute location – describes the place’s exact position on the Earth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990720" indent="-533520">
              <a:spcBef>
                <a:spcPts val="799"/>
              </a:spcBef>
              <a:buClr>
                <a:srgbClr val="003366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relative location – explains where a place is by describing places near it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99072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30T01:57:15Z</dcterms:created>
  <dc:creator>Anna Bettencourt</dc:creator>
  <dc:description/>
  <dc:language>en-US</dc:language>
  <cp:lastModifiedBy>Anna Bettencourt</cp:lastModifiedBy>
  <dcterms:modified xsi:type="dcterms:W3CDTF">2011-02-22T20:24:38Z</dcterms:modified>
  <cp:revision>10</cp:revision>
  <dc:subject/>
  <dc:title>Unit 1: An Overview of Geography **************************</dc:title>
</cp:coreProperties>
</file>